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B00-D6B3-483B-835E-560C0E6F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253-A621-42D1-9E91-4F73ED99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52F52-F3D7-41F7-85ED-FC2D4E9F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0CD88-B85C-45CB-A813-B5F6457C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ADC12-2525-441D-BD00-926AB0A4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A79A1-07F7-46DC-8E45-A7079251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4667D-5B00-465D-93C7-798ED3BA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181F5-3E16-42F1-9BEE-2541A089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D653D-E4ED-4FDA-9173-21656E72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61EEF-C019-4E9C-9097-1841E2C5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1292-BC24-4497-9F83-B7D044FF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F1A1-4975-4D13-BF82-3A00C5CB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043-6E01-40AC-831E-F06DA46D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236DA-D483-4F82-801C-CC0D1005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8B93C-C198-4864-8A1D-CD62A68D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DDD89-6814-41AB-AB9C-6A9DC907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4D7A7-90ED-43AA-8BF5-7B7E3251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807EC-26C6-4AB5-9319-273B4131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0BEA0-761B-4C8D-AE95-B9F7C37F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BFDD9-5D7D-41C2-869A-0E223F2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6FE78-0A3D-4DFA-9C05-612A912D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E2C3-3037-4A12-8311-22C8611E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1DD6B-A1C1-45F2-85F5-E23FF630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E19-D623-4B7F-BE80-EEF82B5B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E7B04-9C02-45C6-AC1B-A4906354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2FEF6-0A79-431B-B1E5-11FCD4CF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4CBEB-F00F-421A-B13B-64C928A9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5C0AF-CC78-4B27-8CC7-9E5C190C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8739F-C33E-4CF7-BDDB-670618C8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C820F-A3EB-4C6E-9D60-A6002392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A2F3F-2821-458A-816A-33EC41E0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6C48C-8A2B-4B2D-A370-26A2EF32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CC52E-24EF-4495-8D4B-50B85F3C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564C8-C26A-486A-BF1E-DA1F356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7CC08-7C5F-4C3E-95DE-410D8EF4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1C115-0351-4DC8-B46E-ED61866B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F8F1E-F06B-4686-9576-083FA370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E4E37-7060-4290-8227-D6DA93E9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23666-8876-4484-B65D-A339D184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3B8D7-40DE-4AD4-A544-9A12DF23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B894B-7888-4EEC-9FED-82DBD252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9E5C7-9FE4-4FA2-A390-41D924EB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5B97D-0714-44FB-A06A-1FDAC5BC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034CC-08C5-495A-8E65-1D2C1126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325B6-B614-4562-B3AD-502B617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52B95-5F2F-4945-A462-8A6F278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AEE13-E953-499A-AB17-44E388E6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212B5-022A-4E12-9563-92112BC0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18062-FEE4-47D3-BBDE-E7AFD2C6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2F920-7813-44C0-947D-05F109EE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B1639-E83F-48A5-89E1-43B2C637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1B09C-55CF-43C7-A144-DA38DCF9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AC88A-BF23-4D8C-B1C2-16B056B3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9164D-1FF3-4BA3-A111-C1405A3C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C6040-D475-499E-80BC-58BA248A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59240-A916-4267-9BDC-4160DB35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382A7-F8FC-4094-AD4D-F98101C3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D8042-B137-4B4B-A7E1-A673107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23001-154A-4FA3-AEC1-EDA1C267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B5EA3-D9D2-4D8D-9D43-02FBDD20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02220-654D-4983-89FE-3083235E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A2AC9-E5D1-44CB-8DE4-874E8198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BECB1-5763-4C57-BCD5-C2659333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D1B8C-7B8C-4481-BF2B-B15F9EDF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E9188-91BB-42DF-96A6-9307036E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6E24B-8765-4C46-AE18-5BAAD767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13525-FB5F-4A72-B9DF-AD2A2000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75A61-B94D-48DE-9BD3-4FDB4916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4C526-3155-4D09-84C8-43A6A234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41D3C-C154-4DC1-AE00-07410A68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6A7B1-6C6E-407A-AC06-2E743446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C47F8-19CE-4E62-8B79-0BD2C6A7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F8B18-F0C7-407A-A3D7-5AFFB0A4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36532-F33F-4068-8FAA-D315A333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0C175-FB30-45B2-8264-2482CD75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9B310-B773-45E6-9F1E-9156D3D9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97E9A-A0BC-42DE-8217-4A190923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C63EC-A84D-4366-817F-96DB0629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35616-D3AD-422E-A8B4-FE976B75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87DF0-B07B-4554-AD7F-5944C04D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57CCB-0294-42C2-A464-EFBD3A5D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74952-C77E-44A9-B605-B9114D9F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E66B4-FE1C-4507-801C-47A03CF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996C2-1CC2-44BD-95B9-C15E3C5C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7D4F8-62CB-4A99-87B6-C34E0138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64DBC-F73D-458C-8C8E-1B5CDAF8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93461-DC6A-46A8-9B84-C10428DE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A1D02-76D4-45FA-831E-EA8FE6CB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07750-54CE-41CB-BC45-A5AF405F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CE188-0768-454D-A20C-25DC064C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67BA9-87D5-4AD3-B003-2702C4B3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F1FCC-ED7C-46CF-A2B1-F5917CEE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362C5-4EA4-46F5-9CB7-1916A823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A3823-F0A3-4BDC-8EF1-18488704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BD175-4340-4A44-8BCE-15528F1D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A05C4-3907-463D-BEA9-EB70E211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ED792-989B-466E-B64B-781E4355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D9804-9346-415E-8C94-5578B47F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F0B8AC-D67F-4C42-AAE0-DC60F09C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CE744-02D0-4014-9253-DFE6002F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D1506-873D-40E3-AFBA-5F3CBF28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D00EF-B276-4DF4-8F3B-7B9FFFAB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50B7C-DDA9-48CD-9195-840E4AAB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49AC2-08BE-4748-9889-469CE69A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729-53B2-448E-B52F-405F0E5E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C46F2-C7C5-41C5-9F8A-54552379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52455-20FC-4444-BB8A-9B2D5DB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7ADBF-AA23-48BB-8664-016CC9CB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7E9AD-BACD-42B7-8D90-CB326CB0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15B2F-135D-49E8-B256-DF5C8AAA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6049C-CCE4-4EE5-95E5-C0B159ED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42FED-F772-4EDC-9AFA-F3D536D5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02419-BE02-4A82-9FBF-9C80AA04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8E662-0BB6-4ABB-958B-87CBB8DB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CA6EB-F3EF-4715-BC47-5B33B531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D54E5-1754-4EEF-854F-CF00EBA3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A972F-4E92-4265-B4CD-8CDD2FBC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7AA3C-DFFE-4BDE-81FE-EAA00EBA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BF64FD-A47E-49B8-AAF6-62B56F9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93F0A-7B0C-4B7A-9C50-088D4E6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5470E-8972-4AC7-A3DD-19B9A3BC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8C305-51CC-43AB-90C4-403B53B1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4A1A8-9B89-494A-B232-0F6CAD11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D1813-7813-4450-A644-2AC974F1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712F08-8031-4D3D-A6CC-4CD26FCC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59B2B-0EC9-427C-8885-20C4922F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8E8EA-F8A2-4526-B213-4C6DB81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A2C58-9415-4FFD-9B18-C98EE1C9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EAAB5-6C79-4105-A5F5-AB6C0FE1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A4680-75C0-40DC-8825-B76CFC94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A43B5-CF42-4767-87A0-593EBEA9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D6CD9-2C59-4BA3-8B23-0BC1D6AF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E12B2-4239-4C0F-A882-16814E04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6083D-C8E4-43C5-9B3F-FA84CF84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5DF9D0-4F3D-45D5-8E0C-FB9C3B76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9FB8E-7107-4DB9-85B7-AB6D3974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BBE30-B129-4CCC-A257-13397BCA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6C4A1B-B6FB-458C-BB57-869BC1A2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A276E-E757-4937-8423-195A7CF9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1A71D-9766-4175-A347-07855BC1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00957-AE46-4076-92E6-AB1F3D8D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62D0AF-4E38-4A58-A85F-A1814DEE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98306-B98B-4F93-B01A-1A7EBDD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07989-07A3-4413-8F0D-4B7EBAB7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48593-0B59-4644-85FF-FBCA2E7B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6E8437-1806-4110-AD53-472D2A50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7DE31-0F14-4E5E-97DD-80C01B80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887C7-6C15-425F-AA70-96202894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771FB-2C1B-4DC7-8496-A5FD544A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729CF-8FEE-4570-ACF4-001D2A30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172301-653D-4E08-9683-837148A5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EB983-C91D-4AAC-B219-E1771987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0568C-375A-4F91-9CF3-17B1A0C0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385C5C-AC1C-4CCF-8AC0-A40CB20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8835C-8FB6-47FE-8CEC-EB56B054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11AD3-33A0-41CE-94A8-0278EA78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39CDD-B639-4173-B087-4BC712DA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AC3AB2-F7FB-4519-B27D-19B5217D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0ED46-2C39-4A46-B50E-C910AAEE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2EFA2-564A-446B-8484-6C9AC18A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187611-8583-41B4-9FD0-101E5F19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4DC24A-D2A9-45FB-A536-DE35B1F8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CCC93-5B47-4E94-8B4B-45772185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84440-7432-44F1-9ECA-4BD004BA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8EEF6-F3CD-4AE6-B871-8F23FB9C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C12D5-FC77-4F19-959D-70C9DAB9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CA210-83D3-46B8-9DE9-0C7E93B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7CEB3-769A-47D6-8E61-856242A0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3CC334-0CC9-426A-8058-5924DD62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57CFE-67BA-4639-8EEB-F77450EB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968DFB-8A2C-41CE-913C-389BDEC0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C3A24D-7B2F-4B57-AAC2-9609D913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3B7741-CEF5-453F-BD26-A8CBE6DD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FAA57-69EA-4952-B299-4A1EBBA4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D75104-15B3-489E-A74B-DCF07847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382E36-72A9-4CA9-8784-0A98D75A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2674C-DC06-4181-8344-A878FF5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3E722C-64A0-410C-B458-F7895D5E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A5C90B-F3CE-49D6-9DDD-B9BEB50C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85269-12B0-4103-A753-3D88945A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518D8F-3D59-4DD3-9833-7BA1F723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0BDA5-0472-4A31-8E4E-1C3AC558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7FEBB8-54E7-4F56-9CA2-CC704A5C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C5C95E-A6FB-46AE-BFF1-E60374DF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EED0A0-D883-4EB3-A0B2-FC2B5140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0EA4E1-165D-40EB-8610-B504C9CA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90FFC2-B964-40D4-B2C2-E529764F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CD8E9F-59CA-4AE6-95D8-1E4FCD59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72063D-04E5-4297-B021-5A3B13F5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E121CE-5BFA-4383-8AE1-BFE6EA9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7F3768-820B-4C51-84D3-FFA03893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900CA6-30F1-4CF6-8F01-249B0821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1DF8F4-E272-41FD-97AD-95455F5D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AF0604-877A-4AD0-9518-7913DD29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957-587D-41C3-9346-3088D599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6883-9C70-4897-9264-8D846EDD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1FC7-A5A8-4F30-A323-884BF1F9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99B5-5B19-4268-BEFC-021FF1F0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D67-F90F-481E-8F3E-8FBDA7A2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5E4E-F4B2-4885-AF98-C65F595D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0B9D-1C1A-4A51-A19A-B33F1D48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7337-3261-4D24-9CE4-06921191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7DCB-7891-416F-A1C1-C7A9E72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BAE-103C-4B7F-9E1B-BE56629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7692-FDB8-4E23-8D9A-625C216E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B70C-EFAD-489D-BD7C-B6BF9CC9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3A81-2B40-4567-A75C-DAC8E900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3A56-749C-42C2-B9FA-BD4594EA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E99CB-EAE5-4093-BD93-41B351D9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65D-7F57-48C4-8203-CCE880FB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4A9E-625B-435F-94B0-B158F3D2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B6A23-028C-4F6A-A6E0-8715A3A0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7AD9-F81F-427B-9E26-72B0E30E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637C1-1A3D-406C-BF36-0EC79C1A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73F2-50FD-451C-9B2F-712FA788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877D-4CDD-434E-BF6C-8A9164A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939D-3DAE-4565-AFFA-13F5A22C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2015-D257-4E7C-9261-5DA87CAF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4300-B235-4DC5-8AC3-0A14F230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DA28B-52C3-4043-B6BA-EECF2CF6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555-A3D2-4792-B119-1F71498F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E0AA-8C23-4C84-968B-162BB8D7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B674F-65C1-4AF3-9870-F53D9654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8E338-4416-4C9C-8546-E79EC31D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FF6C-85CC-4B80-9972-928AC3CC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A6DE-DA20-4D36-8C04-39A9D43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5A09B-FCAB-44A1-92E0-F04B1132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02684-036A-442C-B30D-D82B3793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B4073-CDF2-410A-8AD8-305AE61F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ED1A-6506-45CA-9E98-853B76A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5734-AB6D-41A2-9A3E-6E58E346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79D-F111-4C0E-A2E1-CEC1F007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499D-B40C-4C79-B653-1E3DCCB8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3A60-EA6E-4C56-814C-2377CC1F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37D3-AD7A-488F-8A34-476FE50C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9D6AA-1245-4E5C-A0A4-A5DBA625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6B589-8F6A-496F-A5BA-B91C5681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554E-732E-45A2-B25E-B6AF7C6A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2C937-459F-4B28-9948-A4993D2B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10D70-458A-42F4-B049-32CE6741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25FB3-1DE3-4720-8AF0-17C5D535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06D93-3AFA-4B24-8E78-44299FA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983-8639-454F-A41A-D9E75C0A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61DC5-B4CF-4819-A215-50D7C034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300F-94AB-46D3-A7CB-D5AF813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9FA07-8B79-4E04-89A9-8BCF3D20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E5053-CF97-4A07-A376-C15E8778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A58A2-84FF-43A7-AFD6-101F82D8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16899-CD19-4569-A031-0EADBA58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23B62-CD54-44D2-91C6-85AC7EF5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6AAF7-A1D4-4DA7-B440-5565B1DE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B1DA0-A488-46DC-92B7-B5FB83A4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CB43-0E0A-4B92-842E-6C3F2DCB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952-BCA3-4361-95FA-8091BE38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D399B-3EC3-4B5C-803C-DC260990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2F37B-925A-422B-9D1C-CEE1F99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74DE7-D345-45E2-A013-9613ABEF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5FA02-3BED-42EB-956E-476BA157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2B953-B826-4676-8AA1-690947F4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E400-4436-4241-9859-A46BD8CB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DF236-4557-46B0-91CA-654442DE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B26BA-E1B6-4159-85DF-3DE6035B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26B1E-8464-4BE8-B745-90012AD2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C23AB-CE80-4513-B72D-53AB440C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6d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dd6d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dd6d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1347-4226-47F1-95FB-DB46419877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48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8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49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49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BE51-1861-4948-96E0-0E9E0CC7A3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4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54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4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54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54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39C4-953F-4D2A-9EAD-4B2E6B7D0A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5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5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59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9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9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692-E723-4CC2-B119-E33F3535A5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4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64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4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64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65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A2C9-3DA3-4340-A630-DE8828CD2E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9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70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0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70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70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1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1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6024-5951-49AC-9C8F-B8852EFA38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5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5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75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75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5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75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5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76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6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76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6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77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7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77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7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78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8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dt" idx="3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ftr" idx="3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5BB1-C9CD-44D4-9754-1E1747DCE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2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83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3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83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83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3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83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3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3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83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3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84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4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84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4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85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5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6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86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6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6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6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6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dt" idx="4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ftr" idx="4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AD01-53CD-4526-9717-91F98DE057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0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90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0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90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9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1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91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1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1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1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1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1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1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1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2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2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2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2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3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3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3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3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4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4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4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6118-3ECA-42D0-946B-7ABE6B5663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9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9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98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8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98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9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9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9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9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9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9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9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9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9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9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0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0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0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1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1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dt" idx="4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ftr" idx="4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11AC-DC44-447F-81CB-89485B40ED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6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06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6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06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06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6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06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6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6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6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7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7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7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7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8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8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8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9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9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097" name="PlaceHolder 1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D91F-BAE7-432F-8843-EC72AAF510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3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13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3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14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14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4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14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4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4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4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4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4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4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5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5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5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5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6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6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6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7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7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7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7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174" name="PlaceHolder 1"/>
          <p:cNvSpPr>
            <a:spLocks noGrp="1"/>
          </p:cNvSpPr>
          <p:nvPr>
            <p:ph type="dt" idx="5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ftr" idx="5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F4A1-4C83-4156-A363-295E10ACBE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1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21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21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21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1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22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2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2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2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2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3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3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3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3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4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4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4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5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251" name="PlaceHolder 1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8679-DC74-4ADB-97E1-A6A76DBB81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9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29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9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29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29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9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29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9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9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0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0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0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0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1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1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1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1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2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2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dt" idx="5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ftr" idx="5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8226-6305-4163-B717-9B74BA6382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36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36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7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37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37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7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37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7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7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7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7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7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8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8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8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8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9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9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0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0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0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0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0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405" name="PlaceHolder 1"/>
          <p:cNvSpPr>
            <a:spLocks noGrp="1"/>
          </p:cNvSpPr>
          <p:nvPr>
            <p:ph type="dt" idx="6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ftr" idx="6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sldNum" idx="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CCA9-AF7E-488A-A880-47114C994E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4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44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4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44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44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5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45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5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5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5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5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5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5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5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5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6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6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6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6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7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7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7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7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8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8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482" name="PlaceHolder 1"/>
          <p:cNvSpPr>
            <a:spLocks noGrp="1"/>
          </p:cNvSpPr>
          <p:nvPr>
            <p:ph type="dt" idx="6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ftr" idx="6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8CA9-3839-497E-B666-C4E9BB2D0AFC}" type="slidenum"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0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b3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7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7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  <p:grpSp>
          <p:nvGrpSpPr>
            <p:cNvPr id="17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6d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dd6d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dd6d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BC00-9BB7-43A2-B6B7-1C43913633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22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2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22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2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2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2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2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5B41-7AAE-4601-85BA-F36ACC56B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7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27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7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27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27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56CE-94D7-4B56-BEE0-407D9AB175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2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32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33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33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4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CD89-61A7-4C60-85F9-5C1AA69A8E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38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38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38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8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8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8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8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B158-EE0D-4432-ABFD-E6EBA4C7AE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3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43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3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43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43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3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E290-7361-4906-8D09-3F9CBF466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apitalization and Punctuati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 Project LA Activity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23" name="Picture 5" descr="homeworkx"/>
          <p:cNvPicPr/>
          <p:nvPr/>
        </p:nvPicPr>
        <p:blipFill>
          <a:blip r:embed="rId1"/>
          <a:stretch/>
        </p:blipFill>
        <p:spPr>
          <a:xfrm>
            <a:off x="0" y="3559320"/>
            <a:ext cx="40384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Punctuation:  Exclamation Mark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statement expression strong feeling or excitement ends with an exclamation mark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What a beautiful day it is</a:t>
            </a:r>
            <a:r>
              <a:rPr b="1" lang="en-US" sz="5400" spc="-1" strike="noStrike">
                <a:solidFill>
                  <a:srgbClr val="cc3300"/>
                </a:solidFill>
                <a:latin typeface="Arial Unicode MS"/>
              </a:rPr>
              <a:t>!</a:t>
            </a:r>
            <a:endParaRPr b="0" lang="en-US" sz="5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51" name="Picture 6" descr="yell"/>
          <p:cNvPicPr/>
          <p:nvPr/>
        </p:nvPicPr>
        <p:blipFill>
          <a:blip r:embed="rId1"/>
          <a:stretch/>
        </p:blipFill>
        <p:spPr>
          <a:xfrm>
            <a:off x="7223040" y="3352680"/>
            <a:ext cx="1920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mma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mma separates things in a serie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I ate pizza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 a burger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1" lang="en-US" sz="6000" spc="-1" strike="noStrike">
                <a:solidFill>
                  <a:srgbClr val="330000"/>
                </a:solidFill>
                <a:latin typeface="Arial Unicode MS"/>
              </a:rPr>
              <a:t> 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and ice cream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54" name="Picture 4" descr="pizzaslice22"/>
          <p:cNvPicPr/>
          <p:nvPr/>
        </p:nvPicPr>
        <p:blipFill>
          <a:blip r:embed="rId1"/>
          <a:stretch/>
        </p:blipFill>
        <p:spPr>
          <a:xfrm>
            <a:off x="2438280" y="4724280"/>
            <a:ext cx="2013120" cy="213372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5" descr="bigmac"/>
          <p:cNvPicPr/>
          <p:nvPr/>
        </p:nvPicPr>
        <p:blipFill>
          <a:blip r:embed="rId2"/>
          <a:stretch/>
        </p:blipFill>
        <p:spPr>
          <a:xfrm>
            <a:off x="4419720" y="4724280"/>
            <a:ext cx="1904760" cy="16574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6" descr="icecreamcone"/>
          <p:cNvPicPr/>
          <p:nvPr/>
        </p:nvPicPr>
        <p:blipFill>
          <a:blip r:embed="rId3"/>
          <a:stretch/>
        </p:blipFill>
        <p:spPr>
          <a:xfrm>
            <a:off x="6629400" y="3962520"/>
            <a:ext cx="10382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500"/>
                                        <p:tgtEl>
                                          <p:spTgt spid="1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mma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mma comes before the conjunction that compounds  independent clause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153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She finished her work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 and then she went to bed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59" name="Picture 4" descr="homeworkhelp-mom"/>
          <p:cNvPicPr/>
          <p:nvPr/>
        </p:nvPicPr>
        <p:blipFill>
          <a:blip r:embed="rId1"/>
          <a:stretch/>
        </p:blipFill>
        <p:spPr>
          <a:xfrm>
            <a:off x="7004160" y="4414680"/>
            <a:ext cx="21398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mma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mma separates an interruption from the rest of the sentence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Mr. Walker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 our teacher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 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was happy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62" name="Picture 4" descr="teacher-director"/>
          <p:cNvPicPr/>
          <p:nvPr/>
        </p:nvPicPr>
        <p:blipFill>
          <a:blip r:embed="rId1"/>
          <a:stretch/>
        </p:blipFill>
        <p:spPr>
          <a:xfrm>
            <a:off x="6248520" y="3505320"/>
            <a:ext cx="2400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Oval 5"/>
          <p:cNvSpPr/>
          <p:nvPr/>
        </p:nvSpPr>
        <p:spPr>
          <a:xfrm>
            <a:off x="7086600" y="3809880"/>
            <a:ext cx="1523880" cy="228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mma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mma separates quoted words from the rest of the sentence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“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I wanted to go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” she remarked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66" name="Picture 4" descr="brokenheart"/>
          <p:cNvPicPr/>
          <p:nvPr/>
        </p:nvPicPr>
        <p:blipFill>
          <a:blip r:embed="rId1"/>
          <a:stretch/>
        </p:blipFill>
        <p:spPr>
          <a:xfrm>
            <a:off x="6858000" y="3733920"/>
            <a:ext cx="20210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1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mma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mma separates items in an address or date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Miami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 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Florida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January 6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 2003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69" name="Picture 4" descr="calendardates"/>
          <p:cNvPicPr/>
          <p:nvPr/>
        </p:nvPicPr>
        <p:blipFill>
          <a:blip r:embed="rId1"/>
          <a:stretch/>
        </p:blipFill>
        <p:spPr>
          <a:xfrm>
            <a:off x="5867280" y="3048120"/>
            <a:ext cx="2476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" dur="500"/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lon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858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lon shows the reader that a list or explanation follow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I will need the following items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: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  scissors, paper, glue, and paint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72" name="Picture 5" descr="schoolsupplies"/>
          <p:cNvPicPr/>
          <p:nvPr/>
        </p:nvPicPr>
        <p:blipFill>
          <a:blip r:embed="rId1"/>
          <a:stretch/>
        </p:blipFill>
        <p:spPr>
          <a:xfrm>
            <a:off x="6934320" y="2133720"/>
            <a:ext cx="20160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Punctuation:  Quotation Marks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00"/>
                </a:solidFill>
                <a:latin typeface="Arial Unicode MS"/>
              </a:rPr>
              <a:t>Quotation marks are used to identify the exact words of a speaker .</a:t>
            </a:r>
            <a:endParaRPr b="0" lang="en-US" sz="40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President Bush said,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“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We will not tire, we will not falter, and we will not fail.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”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75" name="Picture 5" descr="seal"/>
          <p:cNvPicPr/>
          <p:nvPr/>
        </p:nvPicPr>
        <p:blipFill>
          <a:blip r:embed="rId1"/>
          <a:stretch/>
        </p:blipFill>
        <p:spPr>
          <a:xfrm>
            <a:off x="6934320" y="4876920"/>
            <a:ext cx="16952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95120" y="304920"/>
            <a:ext cx="894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line Complete Sentence Activit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I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2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3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4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5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6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3111"/>
                </a:solidFill>
                <a:latin typeface="Arial Unicode MS"/>
              </a:rPr>
              <a:t>Periods, Question Marks &amp; Exclamation Marks</a:t>
            </a:r>
            <a:r>
              <a:rPr b="0" lang="en-US" sz="2400" spc="-1" strike="noStrike">
                <a:solidFill>
                  <a:srgbClr val="33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78" name="AutoShape 4"/>
          <p:cNvSpPr/>
          <p:nvPr/>
        </p:nvSpPr>
        <p:spPr>
          <a:xfrm>
            <a:off x="6858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79" name="AutoShape 5"/>
          <p:cNvSpPr/>
          <p:nvPr/>
        </p:nvSpPr>
        <p:spPr>
          <a:xfrm>
            <a:off x="685800" y="2209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0" name="AutoShape 6"/>
          <p:cNvSpPr/>
          <p:nvPr/>
        </p:nvSpPr>
        <p:spPr>
          <a:xfrm>
            <a:off x="685800" y="2743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1" name="AutoShape 7"/>
          <p:cNvSpPr/>
          <p:nvPr/>
        </p:nvSpPr>
        <p:spPr>
          <a:xfrm>
            <a:off x="685800" y="4419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2" name="AutoShape 8"/>
          <p:cNvSpPr/>
          <p:nvPr/>
        </p:nvSpPr>
        <p:spPr>
          <a:xfrm>
            <a:off x="68580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3" name="AutoShape 9"/>
          <p:cNvSpPr/>
          <p:nvPr/>
        </p:nvSpPr>
        <p:spPr>
          <a:xfrm>
            <a:off x="685800" y="5029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4" name="AutoShape 10"/>
          <p:cNvSpPr/>
          <p:nvPr/>
        </p:nvSpPr>
        <p:spPr>
          <a:xfrm>
            <a:off x="6858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5" name="AutoShape 11"/>
          <p:cNvSpPr/>
          <p:nvPr/>
        </p:nvSpPr>
        <p:spPr>
          <a:xfrm>
            <a:off x="685800" y="5638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Comic Sans MS"/>
              </a:rPr>
              <a:t>Why?</a:t>
            </a:r>
            <a:r>
              <a:rPr b="0" lang="en-US" sz="6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6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Writers use capital letters and punctuation marks to help the reader better understand what is written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26" name="Picture 4" descr="oh_no"/>
          <p:cNvPicPr/>
          <p:nvPr/>
        </p:nvPicPr>
        <p:blipFill>
          <a:blip r:embed="rId1"/>
          <a:stretch/>
        </p:blipFill>
        <p:spPr>
          <a:xfrm>
            <a:off x="3733920" y="4419720"/>
            <a:ext cx="185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apital Letter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ll sentences begin with capital letter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W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e enjoyed reading the book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T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hose girls finished cleaning the counter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29" name="Picture 4" descr="choose"/>
          <p:cNvPicPr/>
          <p:nvPr/>
        </p:nvPicPr>
        <p:blipFill>
          <a:blip r:embed="rId1"/>
          <a:stretch/>
        </p:blipFill>
        <p:spPr>
          <a:xfrm>
            <a:off x="7489800" y="4876920"/>
            <a:ext cx="1273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Oval 5"/>
          <p:cNvSpPr/>
          <p:nvPr/>
        </p:nvSpPr>
        <p:spPr>
          <a:xfrm>
            <a:off x="7162920" y="2438280"/>
            <a:ext cx="22860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apital Letter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Proper nouns begin with capital letter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M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rs.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C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lark asked if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A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my would help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U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ncle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R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ob took us to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T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exa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33" name="Picture 4" descr="excited1"/>
          <p:cNvPicPr/>
          <p:nvPr/>
        </p:nvPicPr>
        <p:blipFill>
          <a:blip r:embed="rId1"/>
          <a:stretch/>
        </p:blipFill>
        <p:spPr>
          <a:xfrm>
            <a:off x="7162920" y="2286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apital Letter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The pronoun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I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 is always capitalized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I 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don’t need your help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My aunt and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I 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picked up the paper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36" name="Picture 5" descr="selfish"/>
          <p:cNvPicPr/>
          <p:nvPr/>
        </p:nvPicPr>
        <p:blipFill>
          <a:blip r:embed="rId1"/>
          <a:stretch/>
        </p:blipFill>
        <p:spPr>
          <a:xfrm>
            <a:off x="6643800" y="4530600"/>
            <a:ext cx="25002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apital Letter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 Unicode MS"/>
              </a:rPr>
              <a:t>A capital letter begins the first, last, and any important word in the title of a book, magazine, song, movie, poem, or other work.</a:t>
            </a:r>
            <a:endParaRPr b="0" lang="en-US" sz="3600" spc="-1" strike="noStrike">
              <a:solidFill>
                <a:srgbClr val="33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 Unicode MS"/>
              </a:rPr>
              <a:t>Read the last chapter of 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Arial Unicode MS"/>
              </a:rPr>
              <a:t>T</a:t>
            </a:r>
            <a:r>
              <a:rPr b="0" lang="en-US" sz="3600" spc="-1" strike="noStrike" u="sng">
                <a:solidFill>
                  <a:srgbClr val="330000"/>
                </a:solidFill>
                <a:uFillTx/>
                <a:latin typeface="Arial Unicode MS"/>
              </a:rPr>
              <a:t>om 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Arial Unicode MS"/>
              </a:rPr>
              <a:t>S</a:t>
            </a:r>
            <a:r>
              <a:rPr b="0" lang="en-US" sz="3600" spc="-1" strike="noStrike" u="sng">
                <a:solidFill>
                  <a:srgbClr val="330000"/>
                </a:solidFill>
                <a:uFillTx/>
                <a:latin typeface="Arial Unicode MS"/>
              </a:rPr>
              <a:t>awyer</a:t>
            </a:r>
            <a:r>
              <a:rPr b="0" lang="en-US" sz="3600" spc="-1" strike="noStrike">
                <a:solidFill>
                  <a:srgbClr val="330000"/>
                </a:solidFill>
                <a:latin typeface="Arial Unicode MS"/>
              </a:rPr>
              <a:t>.</a:t>
            </a:r>
            <a:endParaRPr b="0" lang="en-US" sz="3600" spc="-1" strike="noStrike">
              <a:solidFill>
                <a:srgbClr val="33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 Unicode MS"/>
              </a:rPr>
              <a:t>She saw </a:t>
            </a:r>
            <a:r>
              <a:rPr b="1" i="1" lang="en-US" sz="4000" spc="-1" strike="noStrike">
                <a:solidFill>
                  <a:srgbClr val="cc3300"/>
                </a:solidFill>
                <a:latin typeface="Arial Unicode MS"/>
              </a:rPr>
              <a:t>S</a:t>
            </a:r>
            <a:r>
              <a:rPr b="0" i="1" lang="en-US" sz="3600" spc="-1" strike="noStrike">
                <a:solidFill>
                  <a:srgbClr val="330000"/>
                </a:solidFill>
                <a:latin typeface="Arial Unicode MS"/>
              </a:rPr>
              <a:t>now </a:t>
            </a:r>
            <a:r>
              <a:rPr b="1" i="1" lang="en-US" sz="4000" spc="-1" strike="noStrike">
                <a:solidFill>
                  <a:srgbClr val="cc3300"/>
                </a:solidFill>
                <a:latin typeface="Arial Unicode MS"/>
              </a:rPr>
              <a:t>W</a:t>
            </a:r>
            <a:r>
              <a:rPr b="0" i="1" lang="en-US" sz="3600" spc="-1" strike="noStrike">
                <a:solidFill>
                  <a:srgbClr val="330000"/>
                </a:solidFill>
                <a:latin typeface="Arial Unicode MS"/>
              </a:rPr>
              <a:t>hite</a:t>
            </a:r>
            <a:r>
              <a:rPr b="0" lang="en-US" sz="3600" spc="-1" strike="noStrike">
                <a:solidFill>
                  <a:srgbClr val="330000"/>
                </a:solidFill>
                <a:latin typeface="Arial Unicode MS"/>
              </a:rPr>
              <a:t> when she was five years old.</a:t>
            </a:r>
            <a:endParaRPr b="0" lang="en-US" sz="36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39" name="Picture 4" descr="iknow"/>
          <p:cNvPicPr/>
          <p:nvPr/>
        </p:nvPicPr>
        <p:blipFill>
          <a:blip r:embed="rId1"/>
          <a:stretch/>
        </p:blipFill>
        <p:spPr>
          <a:xfrm>
            <a:off x="7284960" y="2971800"/>
            <a:ext cx="185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Punctuation:  Period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00"/>
                </a:solidFill>
                <a:latin typeface="Arial Unicode MS"/>
              </a:rPr>
              <a:t>A complete sentence that makes a statement ends with a period.</a:t>
            </a:r>
            <a:endParaRPr b="0" lang="en-US" sz="40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00"/>
                </a:solidFill>
                <a:latin typeface="Arial Unicode MS"/>
              </a:rPr>
              <a:t>It’s your birthday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.</a:t>
            </a:r>
            <a:r>
              <a:rPr b="0" lang="en-US" sz="4000" spc="-1" strike="noStrike">
                <a:solidFill>
                  <a:srgbClr val="330000"/>
                </a:solidFill>
                <a:latin typeface="Arial Unicode MS"/>
              </a:rPr>
              <a:t>  You blow out the candle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42" name="Picture 4" descr="bdaycake1"/>
          <p:cNvPicPr/>
          <p:nvPr/>
        </p:nvPicPr>
        <p:blipFill>
          <a:blip r:embed="rId1"/>
          <a:stretch/>
        </p:blipFill>
        <p:spPr>
          <a:xfrm>
            <a:off x="5867280" y="4419720"/>
            <a:ext cx="20196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Punctuation:  Period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Most abbreviations end with a period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Dr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.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 Howard lives on Oak Rd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. 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near St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.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 Mary’s Hospital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45" name="Picture 4" descr="doctor1"/>
          <p:cNvPicPr/>
          <p:nvPr/>
        </p:nvPicPr>
        <p:blipFill>
          <a:blip r:embed="rId1"/>
          <a:stretch/>
        </p:blipFill>
        <p:spPr>
          <a:xfrm>
            <a:off x="7201080" y="3933720"/>
            <a:ext cx="19429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Punctuation:  Question Mark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A question ends with a question mark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When will you be finished</a:t>
            </a:r>
            <a:r>
              <a:rPr b="1" lang="en-US" sz="5400" spc="-1" strike="noStrike">
                <a:solidFill>
                  <a:srgbClr val="cc3300"/>
                </a:solidFill>
                <a:latin typeface="Arial Unicode MS"/>
              </a:rPr>
              <a:t>?</a:t>
            </a:r>
            <a:endParaRPr b="0" lang="en-US" sz="5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48" name="Picture 4" descr="boysit"/>
          <p:cNvPicPr/>
          <p:nvPr/>
        </p:nvPicPr>
        <p:blipFill>
          <a:blip r:embed="rId1"/>
          <a:stretch/>
        </p:blipFill>
        <p:spPr>
          <a:xfrm>
            <a:off x="3581280" y="3886200"/>
            <a:ext cx="1098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2:04:41Z</dcterms:created>
  <dc:creator>Jefferson County Schools</dc:creator>
  <dc:description/>
  <dc:language>en-US</dc:language>
  <cp:lastModifiedBy>Nadia Williams</cp:lastModifiedBy>
  <dcterms:modified xsi:type="dcterms:W3CDTF">2014-02-27T15:16:33Z</dcterms:modified>
  <cp:revision>13</cp:revision>
  <dc:subject/>
  <dc:title>Capitalization and Punct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